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1"/>
          </p:nvPr>
        </p:nvSpPr>
        <p:spPr>
          <a:xfrm>
            <a:off x="3886200" y="868644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3C01E-53D3-4F75-903B-5F82A23B7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3851D-9E80-436F-A30B-0EABA6FBE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52020-7656-4B9E-8596-A8DA6182C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7F012-CFFD-4C0C-9526-9593FD292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3EBE8-00BA-43CF-AF0F-52692D3BB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C0B89-981E-46AB-92CF-F83561DFA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55536-2222-4269-A9BE-DCDEC18CE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onents that have a publicly hosted si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laxy, MAKER Web Annotation Service, WebGBrow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ip side to not being monolithic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metimes integration is not smoo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179AB-20C9-4781-A460-2E1392927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8C737-DD8D-4497-AD0D-5DF1064CA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D837C-5986-4FE4-BD8E-3697FE543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51C4A-8786-4E4D-AFB7-F50083F4E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6DB74-F5D8-4123-BB9A-B174644F2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11095-1354-4C2F-AB4E-ECF4BF091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C4F68-C3E3-4104-BA7E-A6FB6B5D3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883584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320" y="3582360"/>
            <a:ext cx="883584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04040" y="83772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320" y="358236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04040" y="358236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2844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63600" y="837720"/>
            <a:ext cx="2844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0880" y="837720"/>
            <a:ext cx="2844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320" y="3582360"/>
            <a:ext cx="2844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63600" y="3582360"/>
            <a:ext cx="2844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0880" y="3582360"/>
            <a:ext cx="2844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320" y="837720"/>
            <a:ext cx="8835840" cy="52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883584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431172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04040" y="837720"/>
            <a:ext cx="431172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4040" y="837720"/>
            <a:ext cx="431172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320" y="358236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431172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4040" y="83772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04040" y="358236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4040" y="83772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320" y="3582360"/>
            <a:ext cx="883584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837720"/>
            <a:ext cx="883584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838080" cy="61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24080" y="0"/>
            <a:ext cx="6019920" cy="6858000"/>
          </a:xfrm>
          <a:prstGeom prst="rect">
            <a:avLst/>
          </a:prstGeom>
          <a:solidFill>
            <a:srgbClr val="001042"/>
          </a:solidFill>
          <a:ln w="9360">
            <a:solidFill>
              <a:srgbClr val="5d09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0"/>
            <a:ext cx="5410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The State of GMOD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5638680"/>
            <a:ext cx="574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ch 2011 GMOD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 National Evolutionary Synthesis Center (NESC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March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76520" y="5578560"/>
            <a:ext cx="1371600" cy="1279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4880" y="618336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onsored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25680" y="2057400"/>
            <a:ext cx="5742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cott C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GMOD Project Coordin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ntario Institute for Cancer Research (OIC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cott@scottcain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1447920"/>
            <a:ext cx="6477120" cy="380880"/>
          </a:xfrm>
          <a:prstGeom prst="rect">
            <a:avLst/>
          </a:prstGeom>
          <a:solidFill>
            <a:srgbClr val="edfa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320" y="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52280" y="5630760"/>
            <a:ext cx="167652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Browse 2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20" y="58572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2.0 rele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Distributed databases and ren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User accounts/track 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Wig, BigWig and BA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AJAX track ren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Automatic summary tr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2.2 rele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User accounts impr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Details multip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iPad 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Ru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Browse 2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55080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400" y="784080"/>
            <a:ext cx="6881760" cy="5307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082000" y="900000"/>
            <a:ext cx="909720" cy="966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8082000" y="5327640"/>
            <a:ext cx="909720" cy="9669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8082000" y="3995640"/>
            <a:ext cx="909720" cy="966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8082000" y="2340000"/>
            <a:ext cx="909720" cy="966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H="1">
            <a:off x="7027920" y="1452600"/>
            <a:ext cx="9604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7029360" y="5845320"/>
            <a:ext cx="9604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7029360" y="4513320"/>
            <a:ext cx="9604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029360" y="2857680"/>
            <a:ext cx="9604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18200" y="2917800"/>
            <a:ext cx="10796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70680" y="1512720"/>
            <a:ext cx="12826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SQ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51680" y="4618080"/>
            <a:ext cx="841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46920" y="5954760"/>
            <a:ext cx="1230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g/S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l D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92320" y="2825640"/>
            <a:ext cx="6824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localhost/cgi-bin/gb2/gbrowse/yeast_mysq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4648320"/>
            <a:ext cx="2362320" cy="2203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0440" y="1027080"/>
            <a:ext cx="2914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coln 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nthony deCatanza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hristopher Vandeve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eter Ruzan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an Dav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0200" y="4775040"/>
            <a:ext cx="183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22920" y="3745080"/>
            <a:ext cx="152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m Ho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77320" y="3429000"/>
            <a:ext cx="2020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S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d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lmar La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ielle Wil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bara Mitch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0040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105520" y="5638680"/>
            <a:ext cx="3902040" cy="1082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589720" y="938160"/>
            <a:ext cx="297468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M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people than I could possibly name, and you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MOD i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A set of interoperable open-source </a:t>
            </a:r>
            <a:r>
              <a:rPr b="1" lang="en-US" sz="3200" spc="-1" strike="noStrike">
                <a:solidFill>
                  <a:srgbClr val="001042"/>
                </a:solidFill>
                <a:latin typeface="Arial"/>
              </a:rPr>
              <a:t>software</a:t>
            </a: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 components for visualizing, annotating, and managing biological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An active </a:t>
            </a:r>
            <a:r>
              <a:rPr b="1" lang="en-US" sz="3200" spc="-1" strike="noStrike">
                <a:solidFill>
                  <a:srgbClr val="001042"/>
                </a:solidFill>
                <a:latin typeface="Arial"/>
              </a:rPr>
              <a:t>community</a:t>
            </a: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 of developers and users asking diverse questions, and facing common challenges, with their biological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ware Rel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838080"/>
            <a:ext cx="88390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0680" y="893880"/>
            <a:ext cx="291780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spcBef>
                <a:spcPts val="1437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rowse 2.00-2.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rowse 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 1.1-1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pal 0.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la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Mine 0.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ware New to GM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WebGBrow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Web interface for creating GBrowse in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IG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1042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Biologist-friendly” interface for Erga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gle Summer of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Hopeful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http://gmod.org/GS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Cooperative application between Reactome, WormBase, and GM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9 suggested ideas with 8 possible mentors (and many more should the need ari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San Diego/Janu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GBrowse tuto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Used a Ubuntu VMware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Attended by about 50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GMOD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Presentations on GBrowse_syn, Galaxy, MAKER, Tri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Attended by about 80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At least 25 workshops, tutorials and posters involving GMOD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MOD.org 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Moved from CSHL to OI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A year in the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Updated the News entry interface—way easier to add i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Create a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Add a template at the bott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“</a:t>
            </a: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{{NewsItem|2011/03/05}}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MOD issue in Database jou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1437"/>
              </a:spcBef>
              <a:spcAft>
                <a:spcPts val="1437"/>
              </a:spcAft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Virtual” 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437"/>
              </a:spcBef>
              <a:spcAft>
                <a:spcPts val="1437"/>
              </a:spcAft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Theory, tutorial or community 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coming GMOD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1437"/>
              </a:spcBef>
              <a:spcAft>
                <a:spcPts val="1437"/>
              </a:spcAft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October 2011: Toronto, Canad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437"/>
              </a:spcBef>
              <a:spcAft>
                <a:spcPts val="1437"/>
              </a:spcAft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April 2012: Washington, DC (in conjunction with the Biocurator meet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6:56:20Z</dcterms:created>
  <dc:creator>GMOD / NESCent</dc:creator>
  <dc:description/>
  <dc:language>en-US</dc:language>
  <cp:lastModifiedBy>Dave Clements</cp:lastModifiedBy>
  <cp:lastPrinted>2009-10-27T11:05:13Z</cp:lastPrinted>
  <dcterms:modified xsi:type="dcterms:W3CDTF">2011-02-28T18:22:40Z</dcterms:modified>
  <cp:revision>55</cp:revision>
  <dc:subject/>
  <dc:title>PowerPoint Presentation</dc:title>
</cp:coreProperties>
</file>